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46B9-AB2C-4400-9F6E-73B1BF8C5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1152.nicerweb.com/Locked/media/ch45/endocrin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yoclinic.com/health/medical/IM006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ualberta.ca/~somji/pituitary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 reabsorption of water in distal convoluted tub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ed by alcohol &amp; caffe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tocin: childbirth, milk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khrissysdogwalkers.com/contest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hyroiduk.org.uk/tuk/about_the_thyroid/thyroid_overview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eavingbio.net/endocrine%20system/endocrine%20syste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ayoclinic.com/health/medical/IM034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ichd.nih.gov/health/topics/adrenal_gland_disorders.c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inghaven.typepad.com/photos/fillmores_12_power/pineal-drawin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choolworkhelper.net/2010/07/the-endocrine-system-function-and-structur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nekaeportfolio.blogspot.com/2011/02/identifying-classes-of-hormone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272-A1A6-43CF-AAD3-DDB6F6D3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B076-5C7E-4C4F-AC4D-233610C3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535D-7AC9-456F-9B98-0C408F3F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27F8-666D-4063-BCE7-8CFC61CD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943-A28B-446A-AA94-088FA8D4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E2A5-2AAE-487E-8A54-F0C5514C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F23-BA4C-4B71-BD78-2EFF82CC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8597-A7BF-42B5-A5A5-D0A31075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1B2D-2630-47F9-B267-EEF6863E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1F89-59F5-48BD-AEE0-871802C4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DF1C-F209-4859-A51E-8314BA2E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319-8504-4F47-927F-2121D032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3EF7-5481-4DF1-985A-10A1970B4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943696/student_view0/chapter10/animation__second_messenger__camp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olcweb/cgi/pluginpop.cgi?it=swf::535::535::/sites/dl/free/0072437316/120109/bio46.swf::Mechanism%20of%20Steroid%20Hormone%20Action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mones &amp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ocrine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1 &amp; 1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31840" y="609480"/>
            <a:ext cx="6878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82760" y="609480"/>
            <a:ext cx="6378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the 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ch diffuse into the blood and travel to the pituitary 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gla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es hormones that control other endocrine g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nervous control of the hypothala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30400" y="1981080"/>
            <a:ext cx="508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rior Pitui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hormones from the hypothalamus stimulate or inhibit release of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, stores &amp; rele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actin (P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horm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pic hormones (TSH, ACTH, FSH, L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anocyte-stimulating hormone M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mediate Lob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very developed in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s endorphins, “natural painkill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phins function in the nervous system in pathways that control p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erior Pitui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s and releases hormones produced by the hypothalam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-diuretic hormone (AD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to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68600" y="609480"/>
            <a:ext cx="5805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2960" y="609480"/>
            <a:ext cx="7316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81120" y="609480"/>
            <a:ext cx="4181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382760" y="609480"/>
            <a:ext cx="6378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09600" y="609480"/>
            <a:ext cx="672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66840" y="609480"/>
            <a:ext cx="661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s produced by cells in one part of the body that regulate processes in another part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ri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nds secrete hormones directly into the blood (exocrine glands into du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e vs. Nerv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ystems integrate and control organs and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ous system helps body to adju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ck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rine system maintains control ov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nger periods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mino acid chains and are water-soluble; diffuse well through blood and fl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r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derived from cholesterol and are soluble in blood when combined with hydrophilic carrier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-Soluble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35160" y="1981080"/>
            <a:ext cx="487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water-soluble (protein) hormones. Specific example of using cAMP to activate proteins in the target c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2943696/student_view0/chapter10/animation__second_messenger__camp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-Soluble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84360" y="1981080"/>
            <a:ext cx="4173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steroid hormone 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olcweb/cgi/pluginpop.cgi?it=swf::535::535::/sites/dl/free/0072437316/120109/bio46.swf::Mechanism%20of%20Steroid%20Hormone%20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0:21:50Z</dcterms:created>
  <dc:creator>rubina khan</dc:creator>
  <dc:description/>
  <dc:language>en-US</dc:language>
  <cp:lastModifiedBy>rubina khan</cp:lastModifiedBy>
  <dcterms:modified xsi:type="dcterms:W3CDTF">2012-12-20T11:36:44Z</dcterms:modified>
  <cp:revision>92</cp:revision>
  <dc:subject/>
  <dc:title>Importance of the Endocrine System</dc:title>
</cp:coreProperties>
</file>